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3F7-6CAC-4FE2-A45B-B329B2DA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3F98-60B4-40CB-B0D2-64B0DB77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77F-CC82-47C7-B1A9-172AA5DD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1C8-4413-4860-AD8D-8DEFEC63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730-75E7-4D41-AF0F-475A1163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0B49-D515-44C0-8ADF-9DBE206D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C98A-4C9A-4026-9217-2BDA8BBE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2099-41F8-4E96-85E0-8DDC7101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878F-71F8-4548-9CF2-21D3D91B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901D-D3E3-4025-A870-56B73976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6B94-0A6C-4D59-A252-D24E2C14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B4F-0A88-4164-B4DC-DA8D339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2002-A985-4F12-BEF4-4DFE69CA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28A-C151-43E6-8407-D50CBFC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641C-FE55-49F0-894E-483C88D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FA7E-AC3F-4DDA-83F3-329B8F7C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3BAB-CB6A-4A65-A4AE-42CE8AC8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C33-6985-4B34-8B90-15BA93C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A8C-FA4F-4DD5-80EE-115C37D6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B8D-E803-4104-86E6-DDB6F030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443-292B-441C-9ADB-A887212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931-B7BE-48BA-AD86-383F1A4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D1CF-1B68-40E2-B562-515905A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5C2-12A0-4AFC-85E3-72A995A1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9580-8B6F-42B0-811A-195DD0423796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FE53-850F-4783-BF55-7BBAA42BB310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meron Gibs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648320"/>
            <a:ext cx="392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ull name: Cameron Miche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ge: 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B: 14 August 198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orn in: Auckland New Zea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eight:6’6’’ (199 c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eight:181 lbs (82 k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383220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Mo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a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Sibling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ere they grew up: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556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Past Olympics: Beijing 2008,Commonwealth g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wards won: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62720" y="2451240"/>
            <a:ext cx="2754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(Training, food, lifestyle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althy food train every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56000" y="2602080"/>
            <a:ext cx="4392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I have chosen swimming is a good sport is and Cameron Gibson has a Great person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577960"/>
            <a:ext cx="1876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5T02:34:05Z</dcterms:modified>
  <cp:revision>5</cp:revision>
  <dc:subject/>
  <dc:title>Name of Athlete</dc:title>
</cp:coreProperties>
</file>