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A51-67B5-452B-968E-A24DB6CE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7CC-C9D4-4EAE-9E2F-CECE6CD8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2A9-40D3-434B-808E-75A476C0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87E-9BED-4FBF-87ED-4F3DBA98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98C0-FD5F-42F9-A040-F3B369EF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B361-676A-4A17-A954-EA8C1F21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5054-49AB-4FAA-A572-891AAD7A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3A82-F744-4D4B-B1E8-AAD2467B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8244-4933-49CC-BAF7-1ED66AB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A05-E350-4688-A138-EB65BFD2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60CB-F10C-41B7-9D76-097BD2B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BEA-B25C-400E-9331-782B7862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ECE5-E87E-4600-AE49-B6700725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DB7C-AFDE-4ED8-8A56-F29EA59F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0C57-1C11-4A00-AD59-300B916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DB51-6062-4DC6-AF74-0686E812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6D0E-E2FF-483D-8BA7-14A79815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64C-14D1-4589-A037-FDA60340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23F-C3FF-4644-959C-B4286F0D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3CF-1936-4EE4-ACA7-32575502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572-BB3C-4917-8D33-D1ED2286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636-7945-4C9C-AD77-85AAA1DA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FD9-202F-4B31-BAC7-01BBA5A8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6AD-1D97-4E7A-9913-C07CFD65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7837-3B6F-4D43-8846-59F4D8C46594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1BD-64C5-4411-8BB9-55F46C29F797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meron Gibs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wim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4648320"/>
            <a:ext cx="3924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ull name: Cameron Miche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ge: 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B: 14 August 198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orn in: Auckland New Zea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eight:6’6’’ (199 c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eight:181 lbs (82 k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24360" y="3832200"/>
            <a:ext cx="3025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Mo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a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Sibling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ere they grew up: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35560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Past Olympics: Beijing 2008,Commonwealth ga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wards won: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62720" y="2451240"/>
            <a:ext cx="27543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(Training, food, lifestyle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althy food train everyd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56000" y="2602080"/>
            <a:ext cx="43927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I have chosen swimming is a good sport is and Cameron Gibson has a Great person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19640" y="2577960"/>
            <a:ext cx="18763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5T02:34:05Z</dcterms:modified>
  <cp:revision>5</cp:revision>
  <dc:subject/>
  <dc:title>Name of Athlete</dc:title>
</cp:coreProperties>
</file>