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EE3-088D-4924-BE44-43C348C2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FC9-C4B1-436B-AAE5-3045BAE7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D06-AA09-4CF7-B18D-878BC0CD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3A8-3969-4C4B-8CCD-4170A3B2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7049-19E0-451D-8929-5D8DA62A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1264-A999-432A-94B5-BADEF0E1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A968-890C-4216-B6BA-984C1DAD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16F5-576B-4ACF-A14A-6EBD30F5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17F5-1E44-4B37-90DA-C478163E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7B33-5363-40CC-BF80-D6BA4617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FC08-BB6D-4E9C-B305-2F3A75EB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B2C-3770-4562-B683-24DDB295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4C51-7B82-4735-8ABF-8EF78CF8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7FE2-5725-4D85-BD62-D81A0151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1355-1088-47D0-9E75-4BCC4E7E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355C-A580-4437-8F5F-301E22A5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BC64-7746-4F9A-8DC8-7F2521EC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73F-91EF-4380-BB34-C2FEF716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A2B9-1661-4557-9A35-A4497116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85BF-9D85-4070-AEDF-57EDE7EA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86D-F5AE-4602-A461-29373442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4B1-E9B9-4C0A-8200-4F004F4F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203-8DAE-4105-80F1-8597D948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C65-976A-4B05-BBFC-AF8263A4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A8B9-D4C7-4332-B7AA-2AA31967D290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F2A4-4CE4-4D19-9BDB-434EFB8C1ABC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ameron Gibso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wim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84360" y="4648320"/>
            <a:ext cx="3924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ull name: Cameron Micheal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ge: 2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B: 14 August 198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orn in: Auckland New Zea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eight:6’6’’ (199 c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eight:181 lbs (82 k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24360" y="3832200"/>
            <a:ext cx="3025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Mo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ath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Sibling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ere they grew up: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35560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Past Olympics: Beijing 2008,Commonwealth ga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wards won: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62720" y="2451240"/>
            <a:ext cx="275436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(Training, food, lifestyle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althy food train everyd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56000" y="2602080"/>
            <a:ext cx="43927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Verdana"/>
              </a:rPr>
              <a:t>I have chosen swimming is a good sport is and Cameron Gibson has a Great persona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219640" y="2577960"/>
            <a:ext cx="18763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5T02:34:05Z</dcterms:modified>
  <cp:revision>5</cp:revision>
  <dc:subject/>
  <dc:title>Name of Athlete</dc:title>
</cp:coreProperties>
</file>