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F0E-8B1A-441E-A72D-281AC86D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E537-7E9B-405E-ADEA-5F8066B4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A6E-B99D-4A21-B741-06EF3E34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BB5-5F2F-4849-A2D4-A887D4F6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E875-91A0-47D7-80FC-687FF1BF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BFC-30BE-4E69-A540-967AF5C8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4E9-8FA9-495A-ADF3-99F74536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E64-20A0-4338-80A4-E16C2C9F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C645-F2E8-4786-9985-C53FB361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8BA-718A-4439-889E-394DE2EA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CD2-31FF-43F3-914B-168845F5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F9A-AE33-4B6D-8ECC-5AA9D2DA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5BFD-1DCB-4A37-B892-CBEE04A87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4865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nee Flave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4869000"/>
            <a:ext cx="2158920" cy="153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39243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ll name: Renee Kimberly Fla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ge: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B:28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March 19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rn in: Nag Puhi &amp; Ngati Kahungu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ight:1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ight: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a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ibl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re they grew up: Auckland, New Zea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 they have a job other than their s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st Olympics: 2008 Bei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wards won: She is ranked in the top 30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old were they when they started? When she was yo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ve they had to overcome any problems to get where they ar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do they have to do to be as good as they are?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Training, food, lifestyle…) training eat healthy f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94360" y="1600200"/>
            <a:ext cx="134640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32000" y="4724280"/>
            <a:ext cx="28796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xplain here why you have chosen this athlete. What do you like about them? How have they inspired you? </a:t>
            </a:r>
            <a:br>
              <a:rPr sz="3200"/>
            </a:b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ecause I like badminton and I liked her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Ministry of Education</cp:lastModifiedBy>
  <dcterms:modified xsi:type="dcterms:W3CDTF">2008-09-25T02:31:11Z</dcterms:modified>
  <cp:revision>8</cp:revision>
  <dc:subject/>
  <dc:title>Name of Athlete</dc:title>
</cp:coreProperties>
</file>