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050-32C4-4BFE-B08A-0E8782B9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F3B-4D4D-4C34-8F06-714D161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CDD-58CB-46E0-9B3E-1285D7AE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E1A-F7DD-46A7-9F09-4E1A1D88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B56-6AC4-496A-A290-8845E191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59A-91AA-4BA0-80EF-0609CD86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623-DC9C-4073-A2C8-7584C24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BA5-D297-4E03-AA32-DD4937EA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52D-2C81-439C-940B-1AC4C63A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5BC-E317-4CF8-802C-3001EDD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F09-1958-4BFD-80FA-F75FEC8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956-7834-4AF2-80DB-884D5E3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004-EC6E-4C11-A3E6-5B455E99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486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ee Flav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15892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392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ll name: Renee Kimberly Fl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e: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B:28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n in: Nag Puhi &amp; Ngati Kahung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ight: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ight: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 they grew up: Auckland,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st Olympics: 2008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wards won: She is ranked in the top 30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old were they when they started? When she wa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raining, food, lifestyle…) training eat healthy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94360" y="160020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2879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plain here why you have chosen this athlete. What do you like about them? How have they inspired you? 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I like badminton and I liked he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31:11Z</dcterms:modified>
  <cp:revision>8</cp:revision>
  <dc:subject/>
  <dc:title>Name of Athlete</dc:title>
</cp:coreProperties>
</file>