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791-1049-402B-93C8-1F9F5DC5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65E-18BB-4814-A1BE-1F9CD595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A8E-B25F-48F6-8FE2-1FAC6CD1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7FF-26A0-49EA-B463-E76451C7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A0E1-DA78-4A3D-9BCC-E8421623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B5B-E933-461F-8391-F6102672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409-D846-403B-A2B3-B8269ADF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D38-1A17-4D03-893D-D3E0B221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7F2-C8B9-4687-BE1D-7F619EB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EFE-9C8D-4447-9059-CC28333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98C-21B1-4887-8151-FC33F12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B46-BAEC-4ED9-BE70-49777AA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112-E29D-4A01-9322-78AF208C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4865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ee Flav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869000"/>
            <a:ext cx="2158920" cy="153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3924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ll name: Renee Kimberly Fla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ge: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B:28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orn in: Nag Puhi &amp; Ngati Kahungu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ight:1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ight: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re they grew up: Auckland,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ast Olympics: 2008 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wards won: She is ranked in the top 30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old were they when they started? When she was yo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t do they have to do to be as good as they are?</a:t>
            </a:r>
            <a:br>
              <a:rPr sz="2800"/>
            </a:b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Training, food, lifestyle…) training eat healthy f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94360" y="160020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4724280"/>
            <a:ext cx="28796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plain here why you have chosen this athlete. What do you like about them? How have they inspired you? </a:t>
            </a:r>
            <a:br>
              <a:rPr sz="3200"/>
            </a:br>
            <a:br>
              <a:rPr sz="3200"/>
            </a:b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ecause I like badminton and I liked her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31:11Z</dcterms:modified>
  <cp:revision>8</cp:revision>
  <dc:subject/>
  <dc:title>Name of Athlete</dc:title>
</cp:coreProperties>
</file>