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36DD-904F-468C-967D-65B3D3BA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652A-C80D-4383-8251-4F5802A0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0836-CD60-4C8D-A53A-BB6CDE4C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283C-0B3C-4229-BA9A-6D61089C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8077-D7E9-41D5-BB65-CAA54C71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226A-1105-475D-AAB7-58752565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5D0A-1657-42B4-928D-7BE00D77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EC32-CFB8-44F0-9B2A-3B5C64F4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E26A-0D94-4DD2-8BC3-97AFA730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0058-192A-433A-A16A-C20D5474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46F5-2651-46C4-B839-445AF654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5FA3-075E-4515-9304-C1787C5B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B088-4F1C-42F2-84C6-310EB3001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4865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nee Flavel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min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4869000"/>
            <a:ext cx="2158920" cy="1530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59280" y="4437000"/>
            <a:ext cx="39243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ull name: Renee Kimberly Flav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ge: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B:28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March 19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orn in: Nag Puhi &amp; Ngati Kahungu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eight:1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ight: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amily and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a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ibl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ere they grew up: Auckland, New Zea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 they have a job other than their s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porting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ast Olympics: 2008 Beij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wards won: She is ranked in the top 30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ow old were they when they started? When she was yo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ave they had to overcome any problems to get where they are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eing the best they can 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at do they have to do to be as good as they are?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(Training, food, lifestyle…) training eat healthy fo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994360" y="1600200"/>
            <a:ext cx="134640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32000" y="4724280"/>
            <a:ext cx="28796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y this athle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xplain here why you have chosen this athlete. What do you like about them? How have they inspired you? </a:t>
            </a:r>
            <a:br>
              <a:rPr sz="3200"/>
            </a:br>
            <a:br>
              <a:rPr sz="3200"/>
            </a:b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ecause I like badminton and I liked her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0:13:15Z</dcterms:created>
  <dc:creator>Miriam Laidlaw</dc:creator>
  <dc:description/>
  <dc:language>en-US</dc:language>
  <cp:lastModifiedBy>Ministry of Education</cp:lastModifiedBy>
  <dcterms:modified xsi:type="dcterms:W3CDTF">2008-09-25T02:31:11Z</dcterms:modified>
  <cp:revision>8</cp:revision>
  <dc:subject/>
  <dc:title>Name of Athlete</dc:title>
</cp:coreProperties>
</file>