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2098-79D2-4BD3-8E25-82A4F00D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BAD-A9BB-4127-A85D-C73AB58A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BD19-C2B0-4364-814D-73423CAA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440-8DDD-4898-8794-B5C3101E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6D1B-CF0E-4107-8A32-FC80DAAF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1FA7-91B0-4EAF-90B9-42880029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81D6-44C1-477A-AB68-D0DD1994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BE49-407F-41F8-8D31-EE18798C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F9F6-8D82-4B88-B6BC-D2437552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B031-55BA-4862-9AE0-D22E7B1D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91DE-B265-4F23-A4E9-9AC8D605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EFCC-6FA0-4B92-843A-E643577B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62F1-5B3C-42AD-BB74-16FEB1C0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7836-A729-4D9B-BCE4-F3BA67A0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5AEB-283A-45B6-98D5-C17B2484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B1EB-4D7C-42CD-9F19-906B080E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2D2D-9D46-41CE-9D46-7518ABF4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DE03-543E-4147-A23A-203AEB42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B4DF-F5A9-434F-A39F-72EC347A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AC7-4076-4CCA-AD2D-71A74A62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302F-F873-4740-93D7-1EC157B4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5C9D-DBD9-408F-9AD7-5328A8CC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02C9-DEE9-4E8E-B9F2-62434544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3828-ABD2-4AF4-9B26-2E12EF23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5075-976A-4D40-A537-932A9BA462B8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7C88-66CC-43EF-8FF2-2A4C233B915B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Graham E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shoo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Graeme Ede (Getty Images)"/>
          <p:cNvPicPr/>
          <p:nvPr/>
        </p:nvPicPr>
        <p:blipFill>
          <a:blip r:embed="rId1"/>
          <a:stretch/>
        </p:blipFill>
        <p:spPr>
          <a:xfrm>
            <a:off x="2843280" y="189000"/>
            <a:ext cx="3036960" cy="19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Profi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Full name: Graeme E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Age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DOB: february 7’196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Born in: southbrid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Height: 193 c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Weight: 115 k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Graeme Ede Picture"/>
          <p:cNvPicPr/>
          <p:nvPr/>
        </p:nvPicPr>
        <p:blipFill>
          <a:blip r:embed="rId1"/>
          <a:stretch/>
        </p:blipFill>
        <p:spPr>
          <a:xfrm>
            <a:off x="5364000" y="3068640"/>
            <a:ext cx="378000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Family and 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Mother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Father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Siblings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Where they grew up: southbrid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Do they have a job other than their spor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Sporting pa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Past Olympics: 2006 199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Awards won: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How old were they when they started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Have they had to overcome any problems to get where they are now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Being the best they can b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What do they have to do to be as good as they are?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(Training, food, lifestyle…)Eat healthy f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y this athle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Explain here why you have chosen this athlete. What do you like about them? How have they inspired you?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Because I like shooting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Graeme Ede Picture"/>
          <p:cNvPicPr/>
          <p:nvPr/>
        </p:nvPicPr>
        <p:blipFill>
          <a:blip r:embed="rId1"/>
          <a:stretch/>
        </p:blipFill>
        <p:spPr>
          <a:xfrm>
            <a:off x="4649760" y="2543040"/>
            <a:ext cx="4037040" cy="264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0:13:15Z</dcterms:created>
  <dc:creator>Miriam Laidlaw</dc:creator>
  <dc:description/>
  <dc:language>en-US</dc:language>
  <cp:lastModifiedBy>Administrator</cp:lastModifiedBy>
  <dcterms:modified xsi:type="dcterms:W3CDTF">2008-09-24T21:52:10Z</dcterms:modified>
  <cp:revision>7</cp:revision>
  <dc:subject/>
  <dc:title>Name of Athlete</dc:title>
</cp:coreProperties>
</file>