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710-193A-4AAD-89E1-B0C271B3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266-1CA6-4CBA-BC95-FAE79085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A5C-557B-4FC6-8DF4-A21B23C5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FD0-6FD9-4CCA-B40F-2EA15F02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D4EF-4DF7-4F27-B702-D393D752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A87A-DE5E-408C-8697-3187C4EF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519A-CEA9-4C3E-9C08-B7168DDE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93B6-1023-4807-9044-7440D869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F1C8-C0C4-4B25-BBA2-1BC2E884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7432-03D1-4488-B936-C5CB668A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D51-1F87-4C9C-B93C-5D1A8FCA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F77-3D78-483F-8A8E-6AF22387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140A-DD7E-40EF-85B0-8C6199E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50FA-1C03-4255-98C3-EF34B2B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3D64-4856-47E4-B50B-427C961F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1AF3-E0AA-4F07-9054-1E10BFA8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4EE8-DECD-44E9-9B29-D289A11E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73B-205C-4DAE-96F5-DB535B47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941-41B5-4252-9F25-F4E7D660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F31-0471-465F-B7ED-41B2E0BF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BC0-5469-4FF7-92E0-7F96C9FD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535-6328-4907-9F4C-2E63B6C4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355-633C-4E0E-8CB6-83939566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C58-5F02-457C-A6BA-7D0E3720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136-79C2-4C90-8DF4-C634D0F8666F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1A4D-7F36-4A47-8847-F09693BB2AE1}" type="slidenum">
              <a:rPr b="0" lang="en-A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raham E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hoo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Graeme Ede (Getty Images)"/>
          <p:cNvPicPr/>
          <p:nvPr/>
        </p:nvPicPr>
        <p:blipFill>
          <a:blip r:embed="rId1"/>
          <a:stretch/>
        </p:blipFill>
        <p:spPr>
          <a:xfrm>
            <a:off x="2843280" y="189000"/>
            <a:ext cx="3036960" cy="191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Full name: Graeme E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Ag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DOB: february 7’196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orn in: southbrid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Height: 193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Weight: 115 k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Graeme Ede Picture"/>
          <p:cNvPicPr/>
          <p:nvPr/>
        </p:nvPicPr>
        <p:blipFill>
          <a:blip r:embed="rId1"/>
          <a:stretch/>
        </p:blipFill>
        <p:spPr>
          <a:xfrm>
            <a:off x="5364000" y="3068640"/>
            <a:ext cx="37800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Family and hist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Mo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Father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Sibling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ere they grew up: southbrid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Sporting p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Past Olympics: 2006 199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Awards won: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ow old were they when they started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Have they had to overcome any problems to get where they are now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eing the best they can b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(Training, food, lifestyle…)Eat healthy fo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y this athle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Explain here why you have chosen this athlete. What do you like about them? How have they inspired you?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Verdana"/>
              </a:rPr>
              <a:t>Because I like shooting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Graeme Ede Picture"/>
          <p:cNvPicPr/>
          <p:nvPr/>
        </p:nvPicPr>
        <p:blipFill>
          <a:blip r:embed="rId1"/>
          <a:stretch/>
        </p:blipFill>
        <p:spPr>
          <a:xfrm>
            <a:off x="4649760" y="2543040"/>
            <a:ext cx="4037040" cy="26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Administrator</cp:lastModifiedBy>
  <dcterms:modified xsi:type="dcterms:W3CDTF">2008-09-24T21:52:10Z</dcterms:modified>
  <cp:revision>7</cp:revision>
  <dc:subject/>
  <dc:title>Name of Athlete</dc:title>
</cp:coreProperties>
</file>