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7B0-8F16-4FAD-98F9-E6FF63DA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D10-18CE-42AB-8949-9E0A4D02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2CB-6337-4CCA-AEF1-AE0647D9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6D3-6072-4EEE-9993-A990F7C8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FDAB-DDB8-4587-8C5A-FCB48D3F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C926-D9A2-4D4F-9914-93303A5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0F83-6411-4146-A966-593B11D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3748-68D3-4E1A-9CA5-CB5763E8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78E-2625-4F9E-9710-540E0AA7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4285-AC45-4EB3-9178-F3F6F57E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76A-3FE9-49D5-987F-FC09299B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7EE-81A0-48C5-BDA3-580052CF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12C1-ED07-440F-AC7B-1B7FFB6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A97-9FD7-4D0F-AED7-03582B2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EA93-82E5-4135-9623-B7BCAD8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D625-B77E-4546-80AA-D5B7B539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41D3-29EF-49B8-9BD3-1AB17E55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4BA-E225-4F1D-9573-21C64BE7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D45-1808-4B0F-AF46-EE30D45C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732-D34E-4485-BD34-D61B7EFF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280-3E82-4017-AE50-622431F1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04F-B1B7-4578-AF5A-6C732E4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F69-2549-422E-AB23-4047BAF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774-AB4B-4A4F-A742-B0C6BE5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BA4B-692C-498B-AAD0-B18BFC4F257E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9C37-CF69-43A6-994B-BA7967BF9D53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raham E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hoo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Graeme Ede (Getty Images)"/>
          <p:cNvPicPr/>
          <p:nvPr/>
        </p:nvPicPr>
        <p:blipFill>
          <a:blip r:embed="rId1"/>
          <a:stretch/>
        </p:blipFill>
        <p:spPr>
          <a:xfrm>
            <a:off x="2843280" y="189000"/>
            <a:ext cx="30369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ull name: Graeme 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g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B: february 7’196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orn in: southbri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ight: 193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eight: 115 k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Graeme Ede Picture"/>
          <p:cNvPicPr/>
          <p:nvPr/>
        </p:nvPicPr>
        <p:blipFill>
          <a:blip r:embed="rId1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Mo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a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ibling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ere they grew up: southbri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ast Olympics: 2006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wards won: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(Training, food, lifestyle…)Eat healthy f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ecause I like shooting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raeme Ede Picture"/>
          <p:cNvPicPr/>
          <p:nvPr/>
        </p:nvPicPr>
        <p:blipFill>
          <a:blip r:embed="rId1"/>
          <a:stretch/>
        </p:blipFill>
        <p:spPr>
          <a:xfrm>
            <a:off x="4649760" y="2543040"/>
            <a:ext cx="403704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4T21:52:10Z</dcterms:modified>
  <cp:revision>7</cp:revision>
  <dc:subject/>
  <dc:title>Name of Athlete</dc:title>
</cp:coreProperties>
</file>