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2C126-EA8D-496E-8646-4146CCEC5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982F3-06EA-44BC-9B94-28F84A64C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009EF-2C32-4838-937C-011376928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A66DE-D4A4-4766-8C69-B70EEDC85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391EC-F14D-4E8D-B921-A43DB8501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28914-58D7-40F2-A3AB-13C41EBB2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6CECA-1E72-41C6-B7E9-AF6A0773A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DBE82-E6B4-4477-AE7F-228E8E828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27B65-1D95-46EF-9F16-103EA82EA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C2F41-6E3A-42D4-A4D6-5E516CFB3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916F3-F1F8-4891-97F1-E4CCBDA98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EA719-AE3B-43C0-AA30-258C08ECC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2F7F3-3379-47FA-8C87-124445B45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4E750-2062-49EE-8596-B49CBF766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9ED16-1174-4076-AE7F-980EB76BF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B5469-BA53-4AFD-A73E-084798EC4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26362-3C04-4FC2-B2F8-29C756F9F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53C7D-04BD-4F15-BD3B-151096E66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262C2-1723-4BA0-B54F-9473F1B94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A5912-3159-42F5-9DCB-AC9689ACB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540E4-7B8E-48B1-A112-1C0754EAB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B5D7C-DB83-4B40-BC48-FFE4A2742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54E2C-C878-4D65-93EA-38ED165D0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AC7D4-34F7-4914-B5B3-1E4B64C59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5B3B0-A099-49E0-88DB-4D4886F7A599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74FCB-9D5A-4E52-8B81-4AB6EB934F02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Mahe drysdale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row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ffffb7"/>
                </a:solidFill>
                <a:latin typeface="Arial Black"/>
              </a:rPr>
              <a:t>Profil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Full name: Alexander  mahe owens drysda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Age:2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DOB:19 november 197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Born in: melboru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Height:199c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Weight:100k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572000" y="692280"/>
            <a:ext cx="4071960" cy="380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ffffb7"/>
                </a:solidFill>
                <a:latin typeface="Arial Black"/>
              </a:rPr>
              <a:t>Family and history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Mother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Father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Sibling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Where they grew up: Melbourne, Austral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Do they have a job other than their spor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ffffb7"/>
                </a:solidFill>
                <a:latin typeface="Arial Black"/>
              </a:rPr>
              <a:t>Sporting pas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Past Olympics: 2008 Beijing, 2004 Athe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Awards won: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How old were they when they started: 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Have they had to overcome any problems to get where they are now?</a:t>
            </a:r>
            <a:br>
              <a:rPr sz="2800"/>
            </a:b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He was sick at the 2008 Beijing Olympics, but he got back in his boat and did i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ffffb7"/>
                </a:solidFill>
                <a:latin typeface="Arial Black"/>
              </a:rPr>
              <a:t>Being the best they can b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What do they have to do to be as good as they are?</a:t>
            </a:r>
            <a:br>
              <a:rPr sz="3200"/>
            </a:b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(Training, food, lifestyle…)</a:t>
            </a:r>
            <a:br>
              <a:rPr sz="3200"/>
            </a:b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He had to train ages every day except Sunday, he has a day off.</a:t>
            </a:r>
            <a:br>
              <a:rPr sz="3200"/>
            </a:b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Healthy and fit.</a:t>
            </a:r>
            <a:br>
              <a:rPr sz="3200"/>
            </a:b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Eats vegetables and fruit and meat for strengt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ffffb7"/>
                </a:solidFill>
                <a:latin typeface="Arial Black"/>
              </a:rPr>
              <a:t>Why this athlete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Explain here why you have chosen this athlete. What do you like about them? How have they inspired you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He’s ni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he is good at row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He really pushes his harde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6T10:13:15Z</dcterms:created>
  <dc:creator>Miriam Laidlaw</dc:creator>
  <dc:description/>
  <dc:language>en-US</dc:language>
  <cp:lastModifiedBy>Ministry of Education</cp:lastModifiedBy>
  <dcterms:modified xsi:type="dcterms:W3CDTF">2008-09-25T02:17:59Z</dcterms:modified>
  <cp:revision>6</cp:revision>
  <dc:subject/>
  <dc:title>Name of Athlete</dc:title>
</cp:coreProperties>
</file>