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44EF-13BA-4C12-803A-F4F7B696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65D-1EBE-455A-B8F5-92335BFD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9913-3A5C-4C11-9D6C-DD7D4175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6A3-EE8A-4E19-85E0-29ACCF38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92B6-6932-473D-87CB-D8855AB4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E4AA-2470-42D6-8019-213F6FEA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95F8-1E74-4DC9-A8DB-D889E6CB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8356-D7A7-4465-B2CD-748BDC53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5A93-0B54-464A-A4AE-62297A9B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81FB-FEB1-48FB-B937-17DFF589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DA0A-902B-423E-A32E-0C493B3C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9C24-1A4F-4935-89ED-2BF3ED5D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AAB4-3322-47C2-BB24-A0F93440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7BD8-7C5A-4C08-AF8A-01B0C9B4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9421-2513-455C-BF44-97C874C9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B7F6-8C81-411C-A633-FC229624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04DD-F18A-48E3-AF0D-BE972633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1B0D-DF15-49CB-9044-AB8EBBD9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B36B-5595-4AF3-8F6E-CF3C2652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CB66-C5E3-4365-B404-4D8FFF5A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CD0-9C37-45A0-BA7D-F808A314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D016-217F-4C0A-930A-77E863EA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0620-466B-419D-BB0C-7DAE21C8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DF0-698F-4221-B284-A37A3F22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EC5C-B839-4482-9AF7-C7E897B780C7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B9A5-8EE3-4CEF-908C-D709BDFCE0BC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ahe drysdal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Profi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Full name: Alexander  mahe owens drysd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ge: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OB:19 november 197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Born in: melboru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ight:199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eight:100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0" y="692280"/>
            <a:ext cx="4071960" cy="38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Family and histo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Mo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a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ibl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here they grew up: Melbourne, Austra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Do they have a job other than their spor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Sporting pa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Past Olympics: 2008 Beijing, 2004 Ath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wards won: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ow old were they when they started: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ave they had to overcome any problems to get where they are now?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 was sick at the 2008 Beijing Olympics, but he got back in his boat and did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Being the best they can b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hat do they have to do to be as good as they are?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(Training, food, lifestyle…)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had to train ages every day except Sunday, he has a day off.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althy and fit.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Eats vegetables and fruit and meat for streng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Why this athlet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Explain here why you have chosen this athlete. What do you like about them? How have they inspired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’s n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is good at 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really pushes his hard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Ministry of Education</cp:lastModifiedBy>
  <dcterms:modified xsi:type="dcterms:W3CDTF">2008-09-25T02:17:59Z</dcterms:modified>
  <cp:revision>6</cp:revision>
  <dc:subject/>
  <dc:title>Name of Athlete</dc:title>
</cp:coreProperties>
</file>