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73E7-1EB1-44A1-850D-029F80BD0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D996-CADC-4BDA-AE9E-D105A9C4D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1332-1C08-4991-A812-97C3701EE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3A26-3402-40AD-BFBD-9090AD225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EE62F-2FE1-4304-BF10-FA588A197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0ED0C-0289-4FEC-84A5-EC61494DD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CEAF8-E3B3-47A6-A15E-2F4440AB4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78A93-E95D-4997-B583-B6E02129B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1D754-51CA-4F1F-AEE2-AB116F713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3E0B1-7C35-4B31-A95A-010357F53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B970C-5557-4B3A-8966-42769152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86AC-CBCE-488C-B722-7BF62D571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D70DC-8B69-4CE7-96BF-07823A8D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E103B-7CAE-486A-BA3B-35E77F6E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989F9-03B7-4030-9EC5-1FAD3DB2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61580-5BED-4682-9E47-9435316C2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40174-E3C2-4471-8D77-1917A9157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86C7-7705-428F-900B-0B2004D4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6AFD-FDC7-4D40-9728-A46AB6F54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D52F-0CD1-4AD7-941E-AF8D24D71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6726-8394-4988-8DE3-B7AD9A93E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0C1F-05E1-4862-9DF3-CEBF4CE2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C64A-B421-4228-8D54-2BCE54E9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74CE-D3F5-4861-8BA1-9E05F3F0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D5472-253D-43A1-BA08-B0AA89B5D6A3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4F425-BF74-4B27-92E6-F46D06A246A1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Mahe drysdal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row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fffb7"/>
                </a:solidFill>
                <a:latin typeface="Arial Black"/>
              </a:rPr>
              <a:t>Profi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Full name: Alexander  mahe owens drysd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Age: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DOB:19 november 197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Born in: melboru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Height:199c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Weight:100k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0" y="692280"/>
            <a:ext cx="4071960" cy="380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fffb7"/>
                </a:solidFill>
                <a:latin typeface="Arial Black"/>
              </a:rPr>
              <a:t>Family and histor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Mothe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Fathe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Sibling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Where they grew up: Melbourne, Austral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Do they have a job other than their spor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fffb7"/>
                </a:solidFill>
                <a:latin typeface="Arial Black"/>
              </a:rPr>
              <a:t>Sporting pas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Past Olympics: 2008 Beijing, 2004 Athe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Awards won: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How old were they when they started: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Have they had to overcome any problems to get where they are now?</a:t>
            </a:r>
            <a:br>
              <a:rPr sz="2800"/>
            </a:b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He was sick at the 2008 Beijing Olympics, but he got back in his boat and did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fffb7"/>
                </a:solidFill>
                <a:latin typeface="Arial Black"/>
              </a:rPr>
              <a:t>Being the best they can b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What do they have to do to be as good as they are?</a:t>
            </a:r>
            <a:br>
              <a:rPr sz="3200"/>
            </a:b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(Training, food, lifestyle…)</a:t>
            </a:r>
            <a:br>
              <a:rPr sz="3200"/>
            </a:b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He had to train ages every day except Sunday, he has a day off.</a:t>
            </a:r>
            <a:br>
              <a:rPr sz="3200"/>
            </a:b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Healthy and fit.</a:t>
            </a:r>
            <a:br>
              <a:rPr sz="3200"/>
            </a:b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Eats vegetables and fruit and meat for streng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fffb7"/>
                </a:solidFill>
                <a:latin typeface="Arial Black"/>
              </a:rPr>
              <a:t>Why this athlete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Explain here why you have chosen this athlete. What do you like about them? How have they inspired yo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He’s n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he is good at row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He really pushes his hard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6T10:13:15Z</dcterms:created>
  <dc:creator>Miriam Laidlaw</dc:creator>
  <dc:description/>
  <dc:language>en-US</dc:language>
  <cp:lastModifiedBy>Ministry of Education</cp:lastModifiedBy>
  <dcterms:modified xsi:type="dcterms:W3CDTF">2008-09-25T02:17:59Z</dcterms:modified>
  <cp:revision>6</cp:revision>
  <dc:subject/>
  <dc:title>Name of Athlete</dc:title>
</cp:coreProperties>
</file>