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FDAA-9EB5-4B80-B95C-37BB0694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0C4-A00D-4F18-96D7-EDC03224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08B-EED6-40FB-8B05-C1DF0393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5E2-AB93-4403-BE65-C1836968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B7A-7783-4F3A-98FB-48714886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B0D-48E1-4979-A53B-FCB3D89A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1AB-2E1C-4B2A-BE77-32E389A8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97A-42A5-4498-A85E-7AA4B9CE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79C-42BF-4531-AC3C-582741EC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145-43E7-4EED-850E-1A367E41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B37-C168-49AD-BC0F-EE88B841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E549-5FB1-43B8-8930-050BF66B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B047-8FBA-4BF0-B278-74D7CC3AC94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269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70120" cy="3560760"/>
          </a:xfrm>
          <a:prstGeom prst="rect">
            <a:avLst/>
          </a:prstGeom>
          <a:ln w="0">
            <a:noFill/>
          </a:ln>
        </p:spPr>
      </p:pic>
      <p:pic>
        <p:nvPicPr>
          <p:cNvPr id="42" name="IMG_2696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2657520" cy="3543480"/>
          </a:xfrm>
          <a:prstGeom prst="rect">
            <a:avLst/>
          </a:prstGeom>
          <a:ln w="0">
            <a:noFill/>
          </a:ln>
        </p:spPr>
      </p:pic>
      <p:pic>
        <p:nvPicPr>
          <p:cNvPr id="43" name="IMG_2684" descr=""/>
          <p:cNvPicPr/>
          <p:nvPr/>
        </p:nvPicPr>
        <p:blipFill>
          <a:blip r:embed="rId3"/>
          <a:stretch/>
        </p:blipFill>
        <p:spPr>
          <a:xfrm>
            <a:off x="4716360" y="36450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24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400" y="239040"/>
            <a:ext cx="5458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r Worm Hous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51040" y="1483560"/>
            <a:ext cx="3555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y room 3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6840" y="96120"/>
            <a:ext cx="92181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worms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G_2686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G_2681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3068640"/>
            <a:ext cx="3085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45800" y="-482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a plastic cup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080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080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09440" y="-2372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san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G_2683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0072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217440" y="-1422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soil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G_2685" descr=""/>
          <p:cNvPicPr/>
          <p:nvPr/>
        </p:nvPicPr>
        <p:blipFill>
          <a:blip r:embed="rId1"/>
          <a:stretch/>
        </p:blipFill>
        <p:spPr>
          <a:xfrm>
            <a:off x="1149480" y="2049480"/>
            <a:ext cx="6286320" cy="471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0800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G_2681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3789360"/>
            <a:ext cx="3086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17440" y="-1850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foo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G_2704" descr=""/>
          <p:cNvPicPr/>
          <p:nvPr/>
        </p:nvPicPr>
        <p:blipFill>
          <a:blip r:embed="rId1"/>
          <a:stretch/>
        </p:blipFill>
        <p:spPr>
          <a:xfrm>
            <a:off x="2063880" y="1957320"/>
            <a:ext cx="3673440" cy="489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4006440" y="2185920"/>
            <a:ext cx="3505320" cy="118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17440" y="-2340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a li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0800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51840" y="188640"/>
            <a:ext cx="929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We got some black pap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for the wriggly, squiggly wor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492280"/>
            <a:ext cx="5832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17440" y="-1944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made a house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G_2697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527280" cy="470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1080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7:30:27Z</dcterms:created>
  <dc:creator>Ministry of Education</dc:creator>
  <dc:description/>
  <dc:language>en-US</dc:language>
  <cp:lastModifiedBy>Ministry of Education</cp:lastModifiedBy>
  <dcterms:modified xsi:type="dcterms:W3CDTF">2008-03-06T07:40:50Z</dcterms:modified>
  <cp:revision>3</cp:revision>
  <dc:subject/>
  <dc:title>Slide 1</dc:title>
</cp:coreProperties>
</file>