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A548-C32A-4993-9CDE-5FEEFE01F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FE2D-3FD2-4ABE-9A00-A9DF2796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BFEB-B3A6-4ABA-9AB5-2EFC03EEF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882E-75EC-4BEC-8F93-93AFBBB27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60D9-29A7-420D-A144-D40DCB1D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27F2-285A-4187-A4DC-7650DA00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8D9E-3F8C-4480-9CF1-F7357866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7769-127F-4133-8183-9E5FF699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3D96-26FD-4116-B753-CE63490A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D195-3E59-4729-B166-D46D4624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8E83-AD05-404D-A0AA-727326FA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FD4A-AB1F-400B-901A-7D0ED21F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A0CC-0A86-4134-A08E-158BDBC59B0F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G_2693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2670120" cy="3560760"/>
          </a:xfrm>
          <a:prstGeom prst="rect">
            <a:avLst/>
          </a:prstGeom>
          <a:ln w="0">
            <a:noFill/>
          </a:ln>
        </p:spPr>
      </p:pic>
      <p:pic>
        <p:nvPicPr>
          <p:cNvPr id="42" name="IMG_2696" descr=""/>
          <p:cNvPicPr/>
          <p:nvPr/>
        </p:nvPicPr>
        <p:blipFill>
          <a:blip r:embed="rId2"/>
          <a:stretch/>
        </p:blipFill>
        <p:spPr>
          <a:xfrm>
            <a:off x="2627280" y="1484280"/>
            <a:ext cx="2657520" cy="3543480"/>
          </a:xfrm>
          <a:prstGeom prst="rect">
            <a:avLst/>
          </a:prstGeom>
          <a:ln w="0">
            <a:noFill/>
          </a:ln>
        </p:spPr>
      </p:pic>
      <p:pic>
        <p:nvPicPr>
          <p:cNvPr id="43" name="IMG_2684" descr=""/>
          <p:cNvPicPr/>
          <p:nvPr/>
        </p:nvPicPr>
        <p:blipFill>
          <a:blip r:embed="rId3"/>
          <a:stretch/>
        </p:blipFill>
        <p:spPr>
          <a:xfrm>
            <a:off x="4716360" y="364500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240" y="7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75400" y="239040"/>
            <a:ext cx="54583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ur Worm House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240" y="185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51040" y="1483560"/>
            <a:ext cx="3555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y room 3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86840" y="96120"/>
            <a:ext cx="921816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 got some worms,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me wriggly, squiggly worms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IMG_2686" descr=""/>
          <p:cNvPicPr/>
          <p:nvPr/>
        </p:nvPicPr>
        <p:blipFill>
          <a:blip r:embed="rId1"/>
          <a:stretch/>
        </p:blipFill>
        <p:spPr>
          <a:xfrm>
            <a:off x="1835280" y="242100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213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G_2681" descr=""/>
          <p:cNvPicPr/>
          <p:nvPr/>
        </p:nvPicPr>
        <p:blipFill>
          <a:blip r:embed="rId1"/>
          <a:stretch/>
        </p:blipFill>
        <p:spPr>
          <a:xfrm>
            <a:off x="2843280" y="1773360"/>
            <a:ext cx="3600360" cy="4800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332000" y="3068640"/>
            <a:ext cx="30859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45800" y="-48240"/>
            <a:ext cx="958068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 got a plastic cup,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the wriggly, squiggly worms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108000" y="18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108000" y="18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-109440" y="-237240"/>
            <a:ext cx="958068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 got some sand,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the wriggly, squiggly worms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IMG_2683" descr=""/>
          <p:cNvPicPr/>
          <p:nvPr/>
        </p:nvPicPr>
        <p:blipFill>
          <a:blip r:embed="rId1"/>
          <a:stretch/>
        </p:blipFill>
        <p:spPr>
          <a:xfrm>
            <a:off x="2771640" y="1700280"/>
            <a:ext cx="3600720" cy="4800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-108000" y="191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-217440" y="-142200"/>
            <a:ext cx="958068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 got some soil,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the wriggly, squiggly worms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IMG_2685" descr=""/>
          <p:cNvPicPr/>
          <p:nvPr/>
        </p:nvPicPr>
        <p:blipFill>
          <a:blip r:embed="rId1"/>
          <a:stretch/>
        </p:blipFill>
        <p:spPr>
          <a:xfrm>
            <a:off x="1149480" y="2049480"/>
            <a:ext cx="6286320" cy="4714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-10800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MG_2681" descr=""/>
          <p:cNvPicPr/>
          <p:nvPr/>
        </p:nvPicPr>
        <p:blipFill>
          <a:blip r:embed="rId1"/>
          <a:stretch/>
        </p:blipFill>
        <p:spPr>
          <a:xfrm>
            <a:off x="2916360" y="1700280"/>
            <a:ext cx="3600360" cy="48006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55640" y="3789360"/>
            <a:ext cx="30862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217440" y="-185040"/>
            <a:ext cx="958068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 got some food,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the wriggly, squiggly worms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108000" y="191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108000" y="191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G_2704" descr=""/>
          <p:cNvPicPr/>
          <p:nvPr/>
        </p:nvPicPr>
        <p:blipFill>
          <a:blip r:embed="rId1"/>
          <a:stretch/>
        </p:blipFill>
        <p:spPr>
          <a:xfrm>
            <a:off x="2063880" y="1957320"/>
            <a:ext cx="3673440" cy="4897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flipH="1">
            <a:off x="4006440" y="2185920"/>
            <a:ext cx="3505320" cy="1181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217440" y="-234000"/>
            <a:ext cx="958068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 got a lid,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the wriggly, squiggly worms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108000" y="18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-51840" y="188640"/>
            <a:ext cx="9297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Comic Sans MS"/>
              </a:rPr>
              <a:t>We got some black paper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Comic Sans MS"/>
              </a:rPr>
              <a:t>for the wriggly, squiggly worm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492280"/>
            <a:ext cx="5832360" cy="2592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217440" y="-194400"/>
            <a:ext cx="958068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 made a house,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the wriggly, squiggly worms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IMG_2697" descr=""/>
          <p:cNvPicPr/>
          <p:nvPr/>
        </p:nvPicPr>
        <p:blipFill>
          <a:blip r:embed="rId1"/>
          <a:stretch/>
        </p:blipFill>
        <p:spPr>
          <a:xfrm>
            <a:off x="2556000" y="1773360"/>
            <a:ext cx="3527280" cy="4703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-108000" y="190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6T07:30:27Z</dcterms:created>
  <dc:creator>Ministry of Education</dc:creator>
  <dc:description/>
  <dc:language>en-US</dc:language>
  <cp:lastModifiedBy>Ministry of Education</cp:lastModifiedBy>
  <dcterms:modified xsi:type="dcterms:W3CDTF">2008-03-06T07:40:50Z</dcterms:modified>
  <cp:revision>3</cp:revision>
  <dc:subject/>
  <dc:title>Slide 1</dc:title>
</cp:coreProperties>
</file>