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014-ACC6-4CC1-9C82-6D43D8C8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0FC-4390-42F3-A515-5F65A52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448-F318-42CB-A76A-35FC3684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FB7-C3CB-43E6-B461-E5D8FF5F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3F2-1E74-43C7-9515-591BC279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AF6-4FA6-48EB-8DE5-8A36B6A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58-0BE5-44BF-9C52-D9EC55B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DD3-1513-4DD6-B699-7097967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3F5-A664-4439-BD7E-4D121E7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430-6232-4884-A1BB-6F6FA68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59D-2959-406D-B85D-6D7FA25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F10-6292-464F-8598-60804CB2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8A2-004F-4630-9CE2-C327CDF7989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269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70120" cy="3560760"/>
          </a:xfrm>
          <a:prstGeom prst="rect">
            <a:avLst/>
          </a:prstGeom>
          <a:ln w="0">
            <a:noFill/>
          </a:ln>
        </p:spPr>
      </p:pic>
      <p:pic>
        <p:nvPicPr>
          <p:cNvPr id="42" name="IMG_2696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2657520" cy="3543480"/>
          </a:xfrm>
          <a:prstGeom prst="rect">
            <a:avLst/>
          </a:prstGeom>
          <a:ln w="0">
            <a:noFill/>
          </a:ln>
        </p:spPr>
      </p:pic>
      <p:pic>
        <p:nvPicPr>
          <p:cNvPr id="43" name="IMG_2684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400" y="239040"/>
            <a:ext cx="5458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Worm Hous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1040" y="1483560"/>
            <a:ext cx="355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room 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840" y="96120"/>
            <a:ext cx="9218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worms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_2686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_2681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3068640"/>
            <a:ext cx="3085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5800" y="-48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plastic cup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09440" y="-237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an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G_2683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17440" y="-1422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oil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G_2685" descr=""/>
          <p:cNvPicPr/>
          <p:nvPr/>
        </p:nvPicPr>
        <p:blipFill>
          <a:blip r:embed="rId1"/>
          <a:stretch/>
        </p:blipFill>
        <p:spPr>
          <a:xfrm>
            <a:off x="1149480" y="204948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0800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G_2681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3789360"/>
            <a:ext cx="3086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17440" y="-1850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foo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_2704" descr=""/>
          <p:cNvPicPr/>
          <p:nvPr/>
        </p:nvPicPr>
        <p:blipFill>
          <a:blip r:embed="rId1"/>
          <a:stretch/>
        </p:blipFill>
        <p:spPr>
          <a:xfrm>
            <a:off x="2063880" y="195732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4006440" y="2185920"/>
            <a:ext cx="3505320" cy="118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17440" y="-2340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li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0800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51840" y="188640"/>
            <a:ext cx="929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e got some black pap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for the wriggly, squiggly wor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492280"/>
            <a:ext cx="5832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17440" y="-1944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made a house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G_2697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52728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080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30:27Z</dcterms:created>
  <dc:creator>Ministry of Education</dc:creator>
  <dc:description/>
  <dc:language>en-US</dc:language>
  <cp:lastModifiedBy>Ministry of Education</cp:lastModifiedBy>
  <dcterms:modified xsi:type="dcterms:W3CDTF">2008-03-06T07:40:50Z</dcterms:modified>
  <cp:revision>3</cp:revision>
  <dc:subject/>
  <dc:title>Slide 1</dc:title>
</cp:coreProperties>
</file>